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ECF3-68E3-4C53-9FE2-5F834A0414D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792160" y="8751960"/>
            <a:ext cx="12740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34D2663-F992-4AA3-A332-C628D08A67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4BBB-6942-403D-A2C9-C90EFD4395F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C781-1D1D-42EC-86D3-2D24FE5229D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269E-1BEC-4B92-AE88-55FE33E84CA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E5D7-1386-4AE0-8932-576BB9DA5A6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3515-2696-4237-8B7D-F46A8581AA0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5205-43C0-48C6-AF60-9CA800B402C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688E-D0A8-471C-9DCE-91E7ACB4EFA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5A53-F2F3-4975-B7A1-DF0D02047B7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3859-7D27-49F8-A676-E5D97C9397E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EFCB-FBE8-4C37-9FFA-50693EA492B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F6B8-9EC0-4B6B-B223-B54BE91F68E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5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DAB0-B9EB-4740-BC93-0931EF53AF0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3640" y="69048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FD53-0404-459A-B1D8-3BAFB7A890A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0BCB-43F0-4091-B954-9108DAB77B6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8A83-C9F6-4D87-9AB1-A5B7A07309E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6FAE-7EDE-4307-BE47-8E1A0F6DFBC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17A3-27E6-4C07-954A-C0AAFA5B1A6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C312-FE5F-4F07-83C1-3D66B60467F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ED8B-D627-440F-9858-23901B98D54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8D67-A25C-4124-B8B8-DC7154595A6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3E71-8265-42DC-A758-54BAA3B9DE8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441360" y="458640"/>
            <a:ext cx="5975280" cy="4481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71320" y="5168880"/>
            <a:ext cx="571500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9ED9-E628-4C44-B26E-DE9B2932DCE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441360" y="458640"/>
            <a:ext cx="5975280" cy="4481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571320" y="5168880"/>
            <a:ext cx="571500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A775-1069-471D-B9B5-869D5AD4F7E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41360" y="458640"/>
            <a:ext cx="5975280" cy="4481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571320" y="5168880"/>
            <a:ext cx="571500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8B7C-EE0B-4BAA-9498-D7A314ABE9F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441360" y="458640"/>
            <a:ext cx="5975280" cy="4481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571320" y="5168880"/>
            <a:ext cx="571500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B071-B8F3-4246-96C7-8778C018D52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441360" y="458640"/>
            <a:ext cx="5975280" cy="4481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71320" y="5168880"/>
            <a:ext cx="571500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B122-F8EE-4BAD-B9D4-77FDD2FC380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441360" y="458640"/>
            <a:ext cx="5975280" cy="4481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71320" y="5168880"/>
            <a:ext cx="571500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7E52-38AD-42FD-925A-F3C297126E7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340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732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301680"/>
            <a:ext cx="746748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"/>
          <p:cNvPicPr/>
          <p:nvPr/>
        </p:nvPicPr>
        <p:blipFill>
          <a:blip r:embed="rId2"/>
          <a:stretch/>
        </p:blipFill>
        <p:spPr>
          <a:xfrm>
            <a:off x="0" y="2666880"/>
            <a:ext cx="3987720" cy="346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171720">
              <a:spcBef>
                <a:spcPts val="7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spcBef>
                <a:spcPts val="7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spcBef>
                <a:spcPts val="7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spcBef>
                <a:spcPts val="7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23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luxograma: Processo 7"/>
          <p:cNvSpPr/>
          <p:nvPr/>
        </p:nvSpPr>
        <p:spPr>
          <a:xfrm>
            <a:off x="0" y="6400800"/>
            <a:ext cx="9144000" cy="241200"/>
          </a:xfrm>
          <a:prstGeom prst="flowChartProcess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LOGÍSTICA  INTTEGR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4" descr="logo"/>
          <p:cNvPicPr/>
          <p:nvPr/>
        </p:nvPicPr>
        <p:blipFill>
          <a:blip r:embed="rId3"/>
          <a:stretch/>
        </p:blipFill>
        <p:spPr>
          <a:xfrm>
            <a:off x="233280" y="6346800"/>
            <a:ext cx="1646280" cy="37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Controle de Estoques: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o Lote Econômic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OGÍSTICA  INTEGR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f. Luciel H. de Oliv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64920" y="231480"/>
            <a:ext cx="7032600" cy="6018120"/>
          </a:xfrm>
          <a:prstGeom prst="rect">
            <a:avLst/>
          </a:prstGeom>
          <a:gradFill rotWithShape="0">
            <a:gsLst>
              <a:gs pos="0">
                <a:srgbClr val="ffff8e"/>
              </a:gs>
              <a:gs pos="100000">
                <a:srgbClr val="ffffdd"/>
              </a:gs>
            </a:gsLst>
            <a:lin ang="16200000"/>
          </a:gradFill>
          <a:ln w="9360">
            <a:solidFill>
              <a:srgbClr val="fd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USTO  UNITÁRIO DE MANUTEN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m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$/unidade/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usto de se manter uma unidade em estoque por um 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on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sto do capital = custo de oportun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sto de armazenagem = espaço, seguros, taxas, perdas, deterioração, obsolescência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64920" y="231480"/>
            <a:ext cx="7032600" cy="6018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USTO DE FALTA DE ESTO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$/unidade não disponí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$/ ordem não cump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flete as consequências econômicas da falta de estoq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das de vend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da da imagem / credibi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da de futuros negó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3600" spc="-1" strike="noStrike">
                <a:solidFill>
                  <a:srgbClr val="ffc000"/>
                </a:solidFill>
                <a:latin typeface="Arial"/>
              </a:rPr>
              <a:t>TIPOS DE DEMA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ão depende d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pende das condições de mer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ora do controle imediato d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te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dutos acab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ças e materiais de reposi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ojas e distribuidores: apenas ven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DRÕES DE CONSUMO DE UM ITEM AO LONGO DO T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DEMAND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INDEPEN-D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3600" spc="-1" strike="noStrike">
                <a:solidFill>
                  <a:srgbClr val="ffc000"/>
                </a:solidFill>
                <a:latin typeface="Arial"/>
              </a:rPr>
              <a:t>TIPOS DE DEMA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u consumo pode ser programado intern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tens usados na produção de outros ite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térias-pri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ças para montag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DRÕES DE CONSUMO DE UM ITEM AO LONGO DO T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DEMAND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DEPEN-D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14520" y="1562040"/>
            <a:ext cx="7914960" cy="3733920"/>
          </a:xfrm>
          <a:prstGeom prst="rect">
            <a:avLst/>
          </a:prstGeom>
          <a:ln w="0">
            <a:noFill/>
          </a:ln>
        </p:spPr>
      </p:pic>
      <p:sp>
        <p:nvSpPr>
          <p:cNvPr id="108" name="CaixaDeTexto 2"/>
          <p:cNvSpPr/>
          <p:nvPr/>
        </p:nvSpPr>
        <p:spPr>
          <a:xfrm>
            <a:off x="5073480" y="2319480"/>
            <a:ext cx="16466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DEPENDENTE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3474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DEMANDA INDEPEND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987120"/>
            <a:ext cx="4040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tín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az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riações aleató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posição de esto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cessidade de estimar a demanda fu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4720" y="3474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DEMANDA DEPEND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4720" y="987480"/>
            <a:ext cx="4041720" cy="52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porádica (lo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ases de produção e pau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quisi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Quantidades e momento são funções de previsões de mercado e/ou encomen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tângulo de cantos arredondados 6"/>
          <p:cNvSpPr/>
          <p:nvPr/>
        </p:nvSpPr>
        <p:spPr>
          <a:xfrm>
            <a:off x="231840" y="2455920"/>
            <a:ext cx="8707320" cy="73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tângulo de cantos arredondados 7"/>
          <p:cNvSpPr/>
          <p:nvPr/>
        </p:nvSpPr>
        <p:spPr>
          <a:xfrm>
            <a:off x="272880" y="2647800"/>
            <a:ext cx="8134560" cy="7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e"/>
              </a:gs>
              <a:gs pos="100000">
                <a:srgbClr val="ffffdd"/>
              </a:gs>
            </a:gsLst>
            <a:lin ang="16200000"/>
          </a:gradFill>
          <a:ln w="9360">
            <a:solidFill>
              <a:srgbClr val="fd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bordagem da Gerência de Esto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Estoques a serem controlados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CURVA AB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todologia aplicada a qualquer caso de classificação de itens de qualquer natureza e sob quaisquer crité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tério mais evidente: Investimento que se faz em cada i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Curva AB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90440" y="1219320"/>
            <a:ext cx="8766360" cy="4776840"/>
          </a:xfrm>
          <a:prstGeom prst="rect">
            <a:avLst/>
          </a:prstGeom>
          <a:ln w="0">
            <a:noFill/>
          </a:ln>
        </p:spPr>
      </p:pic>
      <p:sp>
        <p:nvSpPr>
          <p:cNvPr id="119" name="CaixaDeTexto 3"/>
          <p:cNvSpPr/>
          <p:nvPr/>
        </p:nvSpPr>
        <p:spPr>
          <a:xfrm>
            <a:off x="5800680" y="3521160"/>
            <a:ext cx="29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ITENS     INVEST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   &lt;20%           70-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    20%              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   60-70%          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Curva AB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http://amarildonogueira.com.br/site/wp-content/uploads/2010/03/grafico-ABC.jpg"/>
          <p:cNvPicPr/>
          <p:nvPr/>
        </p:nvPicPr>
        <p:blipFill>
          <a:blip r:embed="rId1"/>
          <a:stretch/>
        </p:blipFill>
        <p:spPr>
          <a:xfrm>
            <a:off x="287280" y="1616040"/>
            <a:ext cx="5558040" cy="3952800"/>
          </a:xfrm>
          <a:prstGeom prst="rect">
            <a:avLst/>
          </a:prstGeom>
          <a:ln w="0">
            <a:noFill/>
          </a:ln>
        </p:spPr>
      </p:pic>
      <p:sp>
        <p:nvSpPr>
          <p:cNvPr id="122" name="CaixaDeTexto 4"/>
          <p:cNvSpPr/>
          <p:nvPr/>
        </p:nvSpPr>
        <p:spPr>
          <a:xfrm>
            <a:off x="5950080" y="2647800"/>
            <a:ext cx="2938320" cy="119124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ITENS     INVEST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   &lt;20%           70-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    20%              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   60-70%          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Curva AB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152000"/>
            <a:ext cx="82346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gião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2844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queno n. de itens, responsáveis pela maior % acumulada dos investi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2844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tens mais importantes, merecem atenção espe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gião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2844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. Intermediário de itens, média % acumulada de investi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gião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2844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ior n. de itns, responsável por pequena parte soa investi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2844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trolado com menor rigor rela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676520" y="2133720"/>
            <a:ext cx="6858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Conceito e importância dos Esto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Curva AB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1152000"/>
            <a:ext cx="82346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ão há uma fórmula definida de se categorizar os ite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ve-se ir pelo bom senso, tendo como base a importância relativa das três classe em relação ao investim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Importan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URVA ABC </a:t>
            </a:r>
            <a:r>
              <a:rPr b="0" lang="pt-BR" sz="3200" spc="-1" strike="noStrike">
                <a:solidFill>
                  <a:srgbClr val="ffff0d"/>
                </a:solidFill>
                <a:latin typeface="Arial"/>
              </a:rPr>
              <a:t>NÃ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É UM </a:t>
            </a:r>
            <a:r>
              <a:rPr b="0" lang="pt-BR" sz="3200" spc="-1" strike="noStrike">
                <a:solidFill>
                  <a:srgbClr val="ffff0d"/>
                </a:solidFill>
                <a:latin typeface="Arial"/>
              </a:rPr>
              <a:t>CONTRO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UMA </a:t>
            </a:r>
            <a:r>
              <a:rPr b="0" lang="pt-BR" sz="3200" spc="-1" strike="noStrike">
                <a:solidFill>
                  <a:srgbClr val="ffc000"/>
                </a:solidFill>
                <a:latin typeface="Arial"/>
              </a:rPr>
              <a:t>FERRAMENTA 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000"/>
                </a:solidFill>
                <a:latin typeface="Arial"/>
              </a:rPr>
              <a:t>Base teór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dentificar o que é mais importante prime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Princípio de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areto (Regra 80-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-19080" y="1843200"/>
            <a:ext cx="91630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61920" y="1650960"/>
            <a:ext cx="9013680" cy="3635280"/>
          </a:xfrm>
          <a:prstGeom prst="rect">
            <a:avLst/>
          </a:prstGeom>
          <a:ln w="0">
            <a:noFill/>
          </a:ln>
        </p:spPr>
      </p:pic>
      <p:sp>
        <p:nvSpPr>
          <p:cNvPr id="131" name="CaixaDeTexto 4"/>
          <p:cNvSpPr/>
          <p:nvPr/>
        </p:nvSpPr>
        <p:spPr>
          <a:xfrm>
            <a:off x="2456280" y="560880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vestimento Anual = Consumo X Pre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85760" y="1392120"/>
            <a:ext cx="8848800" cy="2040120"/>
          </a:xfrm>
          <a:prstGeom prst="rect">
            <a:avLst/>
          </a:prstGeom>
          <a:ln w="0">
            <a:noFill/>
          </a:ln>
        </p:spPr>
      </p:pic>
      <p:sp>
        <p:nvSpPr>
          <p:cNvPr id="133" name="Espaço Reservado para Conteúdo 2"/>
          <p:cNvSpPr/>
          <p:nvPr/>
        </p:nvSpPr>
        <p:spPr>
          <a:xfrm>
            <a:off x="649440" y="3728880"/>
            <a:ext cx="798984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CLASSE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% ITENS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% INVEST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          20%                        7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                          30%                       17,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                          50%                       10,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Chave direita 5"/>
          <p:cNvSpPr/>
          <p:nvPr/>
        </p:nvSpPr>
        <p:spPr>
          <a:xfrm>
            <a:off x="2689200" y="1938240"/>
            <a:ext cx="54000" cy="409680"/>
          </a:xfrm>
          <a:custGeom>
            <a:avLst/>
            <a:gdLst>
              <a:gd name="textAreaLeft" fmla="*/ 0 w 54000"/>
              <a:gd name="textAreaRight" fmla="*/ 19440 w 54000"/>
              <a:gd name="textAreaTop" fmla="*/ 1080 h 409680"/>
              <a:gd name="textAreaBottom" fmla="*/ 40860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16200" y="10800"/>
                  <a:pt x="21600" y="10800"/>
                </a:cubicBezTo>
                <a:cubicBezTo>
                  <a:pt x="162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Chave direita 6"/>
          <p:cNvSpPr/>
          <p:nvPr/>
        </p:nvSpPr>
        <p:spPr>
          <a:xfrm>
            <a:off x="3070080" y="2019240"/>
            <a:ext cx="136800" cy="914400"/>
          </a:xfrm>
          <a:custGeom>
            <a:avLst/>
            <a:gdLst>
              <a:gd name="textAreaLeft" fmla="*/ 0 w 136800"/>
              <a:gd name="textAreaRight" fmla="*/ 49320 w 136800"/>
              <a:gd name="textAreaTop" fmla="*/ 3240 h 914400"/>
              <a:gd name="textAreaBottom" fmla="*/ 9111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"/>
                  <a:pt x="10800" y="269"/>
                </a:cubicBezTo>
                <a:lnTo>
                  <a:pt x="10800" y="10531"/>
                </a:lnTo>
                <a:cubicBezTo>
                  <a:pt x="10800" y="10666"/>
                  <a:pt x="16200" y="10800"/>
                  <a:pt x="21600" y="10800"/>
                </a:cubicBezTo>
                <a:cubicBezTo>
                  <a:pt x="16200" y="10800"/>
                  <a:pt x="10800" y="10935"/>
                  <a:pt x="10800" y="11069"/>
                </a:cubicBezTo>
                <a:lnTo>
                  <a:pt x="10800" y="21331"/>
                </a:lnTo>
                <a:cubicBezTo>
                  <a:pt x="10800" y="21466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have direita 8"/>
          <p:cNvSpPr/>
          <p:nvPr/>
        </p:nvSpPr>
        <p:spPr>
          <a:xfrm>
            <a:off x="2592360" y="1979640"/>
            <a:ext cx="409680" cy="531720"/>
          </a:xfrm>
          <a:custGeom>
            <a:avLst/>
            <a:gdLst>
              <a:gd name="textAreaLeft" fmla="*/ 0 w 409680"/>
              <a:gd name="textAreaRight" fmla="*/ 147960 w 409680"/>
              <a:gd name="textAreaTop" fmla="*/ 10440 h 531720"/>
              <a:gd name="textAreaBottom" fmla="*/ 5212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3"/>
                  <a:pt x="10800" y="1385"/>
                </a:cubicBezTo>
                <a:lnTo>
                  <a:pt x="10800" y="9415"/>
                </a:lnTo>
                <a:cubicBezTo>
                  <a:pt x="10800" y="10108"/>
                  <a:pt x="16200" y="10800"/>
                  <a:pt x="21600" y="10800"/>
                </a:cubicBezTo>
                <a:cubicBezTo>
                  <a:pt x="16200" y="10800"/>
                  <a:pt x="10800" y="11493"/>
                  <a:pt x="10800" y="12185"/>
                </a:cubicBezTo>
                <a:lnTo>
                  <a:pt x="10800" y="20215"/>
                </a:lnTo>
                <a:cubicBezTo>
                  <a:pt x="10800" y="2090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have direita 9"/>
          <p:cNvSpPr/>
          <p:nvPr/>
        </p:nvSpPr>
        <p:spPr>
          <a:xfrm>
            <a:off x="2637000" y="2608200"/>
            <a:ext cx="409320" cy="533520"/>
          </a:xfrm>
          <a:custGeom>
            <a:avLst/>
            <a:gdLst>
              <a:gd name="textAreaLeft" fmla="*/ 0 w 409320"/>
              <a:gd name="textAreaRight" fmla="*/ 147600 w 409320"/>
              <a:gd name="textAreaTop" fmla="*/ 10440 h 533520"/>
              <a:gd name="textAreaBottom" fmla="*/ 5230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3"/>
                  <a:pt x="10800" y="1385"/>
                </a:cubicBezTo>
                <a:lnTo>
                  <a:pt x="10800" y="9415"/>
                </a:lnTo>
                <a:cubicBezTo>
                  <a:pt x="10800" y="10108"/>
                  <a:pt x="16200" y="10800"/>
                  <a:pt x="21600" y="10800"/>
                </a:cubicBezTo>
                <a:cubicBezTo>
                  <a:pt x="16200" y="10800"/>
                  <a:pt x="10800" y="11493"/>
                  <a:pt x="10800" y="12185"/>
                </a:cubicBezTo>
                <a:lnTo>
                  <a:pt x="10800" y="20215"/>
                </a:lnTo>
                <a:cubicBezTo>
                  <a:pt x="10800" y="2090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Chave esquerda 10"/>
          <p:cNvSpPr/>
          <p:nvPr/>
        </p:nvSpPr>
        <p:spPr>
          <a:xfrm>
            <a:off x="7751880" y="2101680"/>
            <a:ext cx="368280" cy="1065240"/>
          </a:xfrm>
          <a:custGeom>
            <a:avLst/>
            <a:gdLst>
              <a:gd name="textAreaLeft" fmla="*/ 235440 w 368280"/>
              <a:gd name="textAreaRight" fmla="*/ 368640 w 368280"/>
              <a:gd name="textAreaTop" fmla="*/ 9360 h 1065240"/>
              <a:gd name="textAreaBottom" fmla="*/ 1055880 h 106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2"/>
                  <a:pt x="10800" y="623"/>
                </a:cubicBezTo>
                <a:lnTo>
                  <a:pt x="10800" y="10177"/>
                </a:lnTo>
                <a:cubicBezTo>
                  <a:pt x="10800" y="10489"/>
                  <a:pt x="5400" y="10800"/>
                  <a:pt x="0" y="10800"/>
                </a:cubicBezTo>
                <a:cubicBezTo>
                  <a:pt x="5400" y="10800"/>
                  <a:pt x="10800" y="11112"/>
                  <a:pt x="10800" y="11423"/>
                </a:cubicBezTo>
                <a:lnTo>
                  <a:pt x="10800" y="20977"/>
                </a:lnTo>
                <a:cubicBezTo>
                  <a:pt x="10800" y="2128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CaixaDeTexto 11"/>
          <p:cNvSpPr/>
          <p:nvPr/>
        </p:nvSpPr>
        <p:spPr>
          <a:xfrm>
            <a:off x="3046680" y="2660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CaixaDeTexto 12"/>
          <p:cNvSpPr/>
          <p:nvPr/>
        </p:nvSpPr>
        <p:spPr>
          <a:xfrm>
            <a:off x="7461360" y="2401920"/>
            <a:ext cx="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amarildonogueira.com.br/site/wp-content/uploads/2010/03/Planilha-ABC.gif"/>
          <p:cNvPicPr/>
          <p:nvPr/>
        </p:nvPicPr>
        <p:blipFill>
          <a:blip r:embed="rId1"/>
          <a:stretch/>
        </p:blipFill>
        <p:spPr>
          <a:xfrm>
            <a:off x="847800" y="838080"/>
            <a:ext cx="7451640" cy="4633920"/>
          </a:xfrm>
          <a:prstGeom prst="rect">
            <a:avLst/>
          </a:prstGeom>
          <a:ln w="0">
            <a:noFill/>
          </a:ln>
        </p:spPr>
      </p:pic>
      <p:sp>
        <p:nvSpPr>
          <p:cNvPr id="142" name="CaixaDeTexto 2"/>
          <p:cNvSpPr/>
          <p:nvPr/>
        </p:nvSpPr>
        <p:spPr>
          <a:xfrm>
            <a:off x="445680" y="355680"/>
            <a:ext cx="37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 NO EX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CaixaDeTexto 3"/>
          <p:cNvSpPr/>
          <p:nvPr/>
        </p:nvSpPr>
        <p:spPr>
          <a:xfrm>
            <a:off x="2769120" y="5881680"/>
            <a:ext cx="42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MM – Consumo Mensal da Mercad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faq.sistemagestor.com/images/Image/G2009/Curva%20ABC%20Produto.jpg"/>
          <p:cNvPicPr/>
          <p:nvPr/>
        </p:nvPicPr>
        <p:blipFill>
          <a:blip r:embed="rId1"/>
          <a:stretch/>
        </p:blipFill>
        <p:spPr>
          <a:xfrm>
            <a:off x="2355840" y="665280"/>
            <a:ext cx="544500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xercíci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4400" y="1706400"/>
            <a:ext cx="91630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stoqu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2680" y="1816200"/>
            <a:ext cx="8447040" cy="34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7164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isquer quantidades de bens físicos que sejam conservados, de forma improdutiva, por algum intervalo de t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em estoq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spcBef>
                <a:spcPts val="64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tos acab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spcBef>
                <a:spcPts val="64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érias-prim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spcBef>
                <a:spcPts val="64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erial em process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pos de Estoqu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0320" y="1816200"/>
            <a:ext cx="8312040" cy="33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ÉRIAS-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ÇAS E OUTROS MATERIAIS  COMPRADOS DE TERCEI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ÇAS E OUTROS MATERIAIS FABRICADOS INTERN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GERIAL EM PROCESSAMENTO (SEMI-ACABAD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TOS ACAB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051600" y="1906560"/>
            <a:ext cx="2192400" cy="3990960"/>
          </a:xfrm>
          <a:prstGeom prst="rect">
            <a:avLst/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ortância da Gestão de Estoqu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838080" y="1352520"/>
            <a:ext cx="2562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Tuning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871560" y="1925640"/>
            <a:ext cx="2604960" cy="3911760"/>
          </a:xfrm>
          <a:prstGeom prst="rect">
            <a:avLst/>
          </a:prstGeom>
          <a:solidFill>
            <a:srgbClr val="cce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D:\DkK\Course_Development\Graphics\docum072_pencil.gif"/>
          <p:cNvPicPr/>
          <p:nvPr/>
        </p:nvPicPr>
        <p:blipFill>
          <a:blip r:embed="rId1"/>
          <a:stretch/>
        </p:blipFill>
        <p:spPr>
          <a:xfrm>
            <a:off x="1050840" y="4886280"/>
            <a:ext cx="514440" cy="860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D:\DkK\Course_Development\Graphics\diagr014_index.gif"/>
          <p:cNvPicPr/>
          <p:nvPr/>
        </p:nvPicPr>
        <p:blipFill>
          <a:blip r:embed="rId2"/>
          <a:stretch/>
        </p:blipFill>
        <p:spPr>
          <a:xfrm>
            <a:off x="1025640" y="4032360"/>
            <a:ext cx="387360" cy="519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D:\DkK\Course_Development\Graphics\docum081_pushpin.gif"/>
          <p:cNvPicPr/>
          <p:nvPr/>
        </p:nvPicPr>
        <p:blipFill>
          <a:blip r:embed="rId3"/>
          <a:stretch/>
        </p:blipFill>
        <p:spPr>
          <a:xfrm>
            <a:off x="1063800" y="2982960"/>
            <a:ext cx="334800" cy="8175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5"/>
          <p:cNvSpPr/>
          <p:nvPr/>
        </p:nvSpPr>
        <p:spPr>
          <a:xfrm>
            <a:off x="1528920" y="3637080"/>
            <a:ext cx="17208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I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6" descr="D:\DkK\Course_Development\Graphics\elect002_calculator.gif"/>
          <p:cNvPicPr/>
          <p:nvPr/>
        </p:nvPicPr>
        <p:blipFill>
          <a:blip r:embed="rId4"/>
          <a:stretch/>
        </p:blipFill>
        <p:spPr>
          <a:xfrm>
            <a:off x="936720" y="1973160"/>
            <a:ext cx="768240" cy="639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7"/>
          <p:cNvSpPr/>
          <p:nvPr/>
        </p:nvSpPr>
        <p:spPr>
          <a:xfrm>
            <a:off x="6108840" y="3630600"/>
            <a:ext cx="2073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3498840" y="3618000"/>
            <a:ext cx="731880" cy="399960"/>
          </a:xfrm>
          <a:prstGeom prst="leftRightArrow">
            <a:avLst>
              <a:gd name="adj1" fmla="val 50000"/>
              <a:gd name="adj2" fmla="val 36428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6192720" y="1281240"/>
            <a:ext cx="19605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hensive SQL Tu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968640" y="4967280"/>
            <a:ext cx="1500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gnóstico 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STÃ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O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1" descr="D:\10iR1_SPOC\10iR1_Beta2\ppt\Review4\perf\doctor.gif"/>
          <p:cNvPicPr/>
          <p:nvPr/>
        </p:nvPicPr>
        <p:blipFill>
          <a:blip r:embed="rId5"/>
          <a:stretch/>
        </p:blipFill>
        <p:spPr>
          <a:xfrm>
            <a:off x="4267080" y="2687760"/>
            <a:ext cx="936720" cy="222876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2"/>
          <p:cNvSpPr/>
          <p:nvPr/>
        </p:nvSpPr>
        <p:spPr>
          <a:xfrm>
            <a:off x="5294160" y="3630600"/>
            <a:ext cx="731880" cy="399960"/>
          </a:xfrm>
          <a:prstGeom prst="leftRightArrow">
            <a:avLst>
              <a:gd name="adj1" fmla="val 50000"/>
              <a:gd name="adj2" fmla="val 36428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051600" y="1906560"/>
            <a:ext cx="2192400" cy="3990960"/>
          </a:xfrm>
          <a:prstGeom prst="rect">
            <a:avLst/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ortância da Gestão de Estoqu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069960" y="4987800"/>
            <a:ext cx="20980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mentos bruscos d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anda exigem esto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 de prod. acab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096960" y="3095640"/>
            <a:ext cx="2318760" cy="18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m as diferen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 de ritmo ent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fluxos da empres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ega Mat.pr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Produ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i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838080" y="1352520"/>
            <a:ext cx="2562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Tuning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871560" y="1925640"/>
            <a:ext cx="2604960" cy="4255920"/>
          </a:xfrm>
          <a:prstGeom prst="rect">
            <a:avLst/>
          </a:prstGeom>
          <a:solidFill>
            <a:srgbClr val="cce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9" descr="D:\DkK\Course_Development\Graphics\docum072_pencil.gif"/>
          <p:cNvPicPr/>
          <p:nvPr/>
        </p:nvPicPr>
        <p:blipFill>
          <a:blip r:embed="rId1"/>
          <a:stretch/>
        </p:blipFill>
        <p:spPr>
          <a:xfrm>
            <a:off x="1050840" y="4886280"/>
            <a:ext cx="514440" cy="86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D:\DkK\Course_Development\Graphics\diagr014_index.gif"/>
          <p:cNvPicPr/>
          <p:nvPr/>
        </p:nvPicPr>
        <p:blipFill>
          <a:blip r:embed="rId2"/>
          <a:stretch/>
        </p:blipFill>
        <p:spPr>
          <a:xfrm>
            <a:off x="1025640" y="4032360"/>
            <a:ext cx="387360" cy="5191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1446120" y="3986280"/>
            <a:ext cx="196380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Índice de rotação de estoque: P/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= Valor da produção annu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= Valor dos estoq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édia empresas brasileiras: 10 vezes/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13" descr="D:\DkK\Course_Development\Graphics\docum081_pushpin.gif"/>
          <p:cNvPicPr/>
          <p:nvPr/>
        </p:nvPicPr>
        <p:blipFill>
          <a:blip r:embed="rId3"/>
          <a:stretch/>
        </p:blipFill>
        <p:spPr>
          <a:xfrm>
            <a:off x="1063800" y="2982960"/>
            <a:ext cx="334800" cy="817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4"/>
          <p:cNvSpPr/>
          <p:nvPr/>
        </p:nvSpPr>
        <p:spPr>
          <a:xfrm>
            <a:off x="1446120" y="3052800"/>
            <a:ext cx="19288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  Estoq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  Taxa de Reto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1679400" y="2135160"/>
            <a:ext cx="17211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oque = investimento, parte do capi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6" descr="D:\DkK\Course_Development\Graphics\elect002_calculator.gif"/>
          <p:cNvPicPr/>
          <p:nvPr/>
        </p:nvPicPr>
        <p:blipFill>
          <a:blip r:embed="rId4"/>
          <a:stretch/>
        </p:blipFill>
        <p:spPr>
          <a:xfrm>
            <a:off x="936720" y="1973160"/>
            <a:ext cx="768240" cy="639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7"/>
          <p:cNvSpPr/>
          <p:nvPr/>
        </p:nvSpPr>
        <p:spPr>
          <a:xfrm>
            <a:off x="6067440" y="2225520"/>
            <a:ext cx="20732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mitem economia na produ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6192720" y="1281240"/>
            <a:ext cx="19605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hensive SQL Tu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3968640" y="4967280"/>
            <a:ext cx="1500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gnóstico 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STÃ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O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6081840" y="1420920"/>
            <a:ext cx="2073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1270080" y="1440000"/>
            <a:ext cx="17208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CEI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1" descr="D:\10iR1_SPOC\10iR1_Beta2\ppt\Review4\perf\doctor.gif"/>
          <p:cNvPicPr/>
          <p:nvPr/>
        </p:nvPicPr>
        <p:blipFill>
          <a:blip r:embed="rId5"/>
          <a:stretch/>
        </p:blipFill>
        <p:spPr>
          <a:xfrm>
            <a:off x="4267080" y="2687760"/>
            <a:ext cx="93672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talhamento dos objetivos operacionais dos estoqu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63640" y="1816200"/>
            <a:ext cx="784368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estoques cobrem mudanças previstas no suprimento e na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ção contra incerte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ção ou compra econômica (em lo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ção intermitente por lote de fabric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r custo unitário de aquisição (descont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gurar o emprego uniforme da mão-de-ob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01680"/>
            <a:ext cx="7974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strutura de curtos em estoqu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721640" cy="33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7164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 DO I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 DO PED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 UNITÁRIO DE MANUTEN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 DE FALTA DE ESTO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480" y="204480"/>
            <a:ext cx="3848400" cy="6018120"/>
          </a:xfrm>
          <a:prstGeom prst="rect">
            <a:avLst/>
          </a:prstGeom>
          <a:gradFill rotWithShape="0">
            <a:gsLst>
              <a:gs pos="0">
                <a:srgbClr val="ffff8e"/>
              </a:gs>
              <a:gs pos="100000">
                <a:srgbClr val="ffffdd"/>
              </a:gs>
            </a:gsLst>
            <a:lin ang="16200000"/>
          </a:gradFill>
          <a:ln w="9360">
            <a:solidFill>
              <a:srgbClr val="fd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USTO DO I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 p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$/un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usto unitário  ou preço unitá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dução ou 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Espaço Reservado para Conteúdo 3"/>
          <p:cNvGrpSpPr/>
          <p:nvPr/>
        </p:nvGrpSpPr>
        <p:grpSpPr>
          <a:xfrm>
            <a:off x="4516560" y="139680"/>
            <a:ext cx="4414680" cy="6127920"/>
            <a:chOff x="4516560" y="139680"/>
            <a:chExt cx="4414680" cy="6127920"/>
          </a:xfrm>
        </p:grpSpPr>
        <p:pic>
          <p:nvPicPr>
            <p:cNvPr id="97" name="Espaço Reservado para Conteúdo 3" descr=""/>
            <p:cNvPicPr/>
            <p:nvPr/>
          </p:nvPicPr>
          <p:blipFill>
            <a:blip r:embed="rId1"/>
            <a:stretch/>
          </p:blipFill>
          <p:spPr>
            <a:xfrm>
              <a:off x="4516560" y="139680"/>
              <a:ext cx="4414680" cy="612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678200" y="231840"/>
              <a:ext cx="4110120" cy="59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cc0000"/>
                </a:buClr>
                <a:buFont typeface="Wingdings" charset="2"/>
                <a:buChar char="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CUSTO DO PED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C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just">
                <a:spcBef>
                  <a:spcPts val="700"/>
                </a:spcBef>
                <a:buClr>
                  <a:srgbClr val="cc0000"/>
                </a:buClr>
                <a:buFont typeface="Wingdings" charset="2"/>
                <a:buChar char="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R$/ped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just">
                <a:spcBef>
                  <a:spcPts val="601"/>
                </a:spcBef>
                <a:buClr>
                  <a:srgbClr val="cc0000"/>
                </a:buClr>
                <a:buFont typeface="Wingdings" charset="2"/>
                <a:buChar char="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oma de todos os custos incorridos desde o momento em que é feito o pedido até a mercadoria ser estocada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buClr>
                  <a:srgbClr val="cc0000"/>
                </a:buClr>
                <a:buFont typeface="Wingdings" charset="2"/>
                <a:buChar char="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nclui: manutenção, transporte, inspeção, seguro, etc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9:19:12Z</dcterms:created>
  <dc:creator/>
  <dc:description/>
  <cp:keywords/>
  <dc:language>en-US</dc:language>
  <cp:lastModifiedBy>LUCIEL</cp:lastModifiedBy>
  <cp:lastPrinted>2009-04-22T19:24:48Z</cp:lastPrinted>
  <dcterms:modified xsi:type="dcterms:W3CDTF">2012-09-22T00:00:43Z</dcterms:modified>
  <cp:revision>439</cp:revision>
  <dc:subject/>
  <dc:title>Controle de Estoques: o Lote Econômico</dc:title>
</cp:coreProperties>
</file>